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4.gif" ContentType="image/gif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8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3B60-5024-4EF1-B03A-C071C86004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8F4D-3041-4094-9758-5D7F3A698E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9C1C-0E1C-490F-B560-FB634430F4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2DF3-A1B1-4FE8-B30A-818660E280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20B0-C192-4A7F-A3A7-9F6E6B7FA2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D3B4-6FC5-4479-A952-BFBC872165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адайте зага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1461-CC3B-4D48-9CBE-9B4449712F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FA30-5F86-4C3B-A913-73DACCCD96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96FD-58EB-4656-BE44-4892D5190C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F277-709D-44BA-A5CE-B383CE20D4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 уксусной кислоте прикасаться опас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1351-2313-40D3-99FB-E3BEDEDAC9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B877-4FE9-492F-8F9E-9B65DF8D04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Допиш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B90F-BD13-47D8-9CE9-FFB31C30C1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C321-168F-4358-B1D2-2BF14CD430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арисуй сх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2525-E861-4FFF-A4DA-A580C645E3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6B3E-AA2A-47C4-92A4-FECAE6644F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1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71D0-254C-4A4B-88BE-B3AD7C0EF1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B401-81BF-4C4C-9926-69A5ED1FD7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4984-DD16-417F-A2E2-94E6FDA019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8892-5B16-484B-8278-B64154AA33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516-A1F1-4C77-A56D-A1E3E3F1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F49-F047-4578-860E-162A10DF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27C-2C08-4F22-B475-0EB2FF0B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4A0-F790-4914-8828-3C81CC8A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FC8-A58A-4924-88A3-69AA6094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3E8-1E14-4F7A-ACBD-99B0A36A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6EB-E9F6-4FBD-B15D-8DC9BF31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943-F8B4-47E8-B350-6EAF065F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5F3-3BBF-40BC-BCE5-2E521D9D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044-7B45-466A-8A4F-CB4E4A1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243-A917-48BA-9F82-AA4D0809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73C-E383-428A-8A3F-D5BAFAFA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68BE-DC90-411F-B714-74CC04B4CB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399C-94FE-4628-B42A-83DDB950A1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6920" y="4739760"/>
            <a:ext cx="475308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.PHILKA\Рабочий стол\мама\анимации\Учителя и ученики ІІ\132.gif"/>
          <p:cNvPicPr/>
          <p:nvPr/>
        </p:nvPicPr>
        <p:blipFill>
          <a:blip r:embed="rId1"/>
          <a:stretch/>
        </p:blipFill>
        <p:spPr>
          <a:xfrm>
            <a:off x="6948360" y="4456080"/>
            <a:ext cx="185436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4"/>
          <p:cNvSpPr/>
          <p:nvPr/>
        </p:nvSpPr>
        <p:spPr>
          <a:xfrm>
            <a:off x="6858000" y="2666880"/>
            <a:ext cx="16765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3886200" y="26668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676520" y="2666880"/>
            <a:ext cx="160020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352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Овал 4"/>
          <p:cNvGrpSpPr/>
          <p:nvPr/>
        </p:nvGrpSpPr>
        <p:grpSpPr>
          <a:xfrm>
            <a:off x="1773360" y="2792520"/>
            <a:ext cx="720720" cy="718920"/>
            <a:chOff x="1773360" y="2792520"/>
            <a:chExt cx="720720" cy="718920"/>
          </a:xfrm>
        </p:grpSpPr>
        <p:pic>
          <p:nvPicPr>
            <p:cNvPr id="141" name="Овал 4" descr=""/>
            <p:cNvPicPr/>
            <p:nvPr/>
          </p:nvPicPr>
          <p:blipFill>
            <a:blip r:embed="rId2"/>
            <a:stretch/>
          </p:blipFill>
          <p:spPr>
            <a:xfrm>
              <a:off x="1773360" y="27925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17720" y="29084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5"/>
          <p:cNvGrpSpPr/>
          <p:nvPr/>
        </p:nvGrpSpPr>
        <p:grpSpPr>
          <a:xfrm>
            <a:off x="2157480" y="2792520"/>
            <a:ext cx="718920" cy="718920"/>
            <a:chOff x="2157480" y="2792520"/>
            <a:chExt cx="718920" cy="718920"/>
          </a:xfrm>
        </p:grpSpPr>
        <p:pic>
          <p:nvPicPr>
            <p:cNvPr id="144" name="Овал 5" descr=""/>
            <p:cNvPicPr/>
            <p:nvPr/>
          </p:nvPicPr>
          <p:blipFill>
            <a:blip r:embed="rId3"/>
            <a:stretch/>
          </p:blipFill>
          <p:spPr>
            <a:xfrm>
              <a:off x="2157480" y="27925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98600" y="29084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8"/>
          <p:cNvGrpSpPr/>
          <p:nvPr/>
        </p:nvGrpSpPr>
        <p:grpSpPr>
          <a:xfrm>
            <a:off x="4900680" y="3017880"/>
            <a:ext cx="718920" cy="718920"/>
            <a:chOff x="4900680" y="3017880"/>
            <a:chExt cx="718920" cy="718920"/>
          </a:xfrm>
        </p:grpSpPr>
        <p:pic>
          <p:nvPicPr>
            <p:cNvPr id="147" name="Овал 8" descr=""/>
            <p:cNvPicPr/>
            <p:nvPr/>
          </p:nvPicPr>
          <p:blipFill>
            <a:blip r:embed="rId4"/>
            <a:stretch/>
          </p:blipFill>
          <p:spPr>
            <a:xfrm>
              <a:off x="4900680" y="301788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41800" y="31370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138560" y="3017880"/>
            <a:ext cx="719280" cy="718920"/>
            <a:chOff x="4138560" y="3017880"/>
            <a:chExt cx="719280" cy="718920"/>
          </a:xfrm>
        </p:grpSpPr>
        <p:pic>
          <p:nvPicPr>
            <p:cNvPr id="150" name="Овал 9" descr=""/>
            <p:cNvPicPr/>
            <p:nvPr/>
          </p:nvPicPr>
          <p:blipFill>
            <a:blip r:embed="rId5"/>
            <a:stretch/>
          </p:blipFill>
          <p:spPr>
            <a:xfrm>
              <a:off x="4138560" y="30178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80040" y="31370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4516560" y="2712960"/>
            <a:ext cx="652320" cy="658800"/>
            <a:chOff x="4516560" y="2712960"/>
            <a:chExt cx="652320" cy="658800"/>
          </a:xfrm>
        </p:grpSpPr>
        <p:pic>
          <p:nvPicPr>
            <p:cNvPr id="153" name="Овал 7" descr=""/>
            <p:cNvPicPr/>
            <p:nvPr/>
          </p:nvPicPr>
          <p:blipFill>
            <a:blip r:embed="rId6"/>
            <a:stretch/>
          </p:blipFill>
          <p:spPr>
            <a:xfrm>
              <a:off x="4516560" y="2712960"/>
              <a:ext cx="652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51200" y="282240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0"/>
          <p:cNvGrpSpPr/>
          <p:nvPr/>
        </p:nvGrpSpPr>
        <p:grpSpPr>
          <a:xfrm>
            <a:off x="7412040" y="2792520"/>
            <a:ext cx="652320" cy="652320"/>
            <a:chOff x="7412040" y="2792520"/>
            <a:chExt cx="652320" cy="652320"/>
          </a:xfrm>
        </p:grpSpPr>
        <p:pic>
          <p:nvPicPr>
            <p:cNvPr id="156" name="Овал 10" descr=""/>
            <p:cNvPicPr/>
            <p:nvPr/>
          </p:nvPicPr>
          <p:blipFill>
            <a:blip r:embed="rId7"/>
            <a:stretch/>
          </p:blipFill>
          <p:spPr>
            <a:xfrm>
              <a:off x="7412040" y="2792520"/>
              <a:ext cx="652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7040" y="2898720"/>
              <a:ext cx="385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1"/>
          <p:cNvGrpSpPr/>
          <p:nvPr/>
        </p:nvGrpSpPr>
        <p:grpSpPr>
          <a:xfrm>
            <a:off x="7034040" y="2792520"/>
            <a:ext cx="652680" cy="652320"/>
            <a:chOff x="7034040" y="2792520"/>
            <a:chExt cx="652680" cy="652320"/>
          </a:xfrm>
        </p:grpSpPr>
        <p:pic>
          <p:nvPicPr>
            <p:cNvPr id="159" name="Овал 11" descr=""/>
            <p:cNvPicPr/>
            <p:nvPr/>
          </p:nvPicPr>
          <p:blipFill>
            <a:blip r:embed="rId8"/>
            <a:stretch/>
          </p:blipFill>
          <p:spPr>
            <a:xfrm>
              <a:off x="7034040" y="2792520"/>
              <a:ext cx="6526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5800" y="289872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5"/>
          <p:cNvSpPr/>
          <p:nvPr/>
        </p:nvSpPr>
        <p:spPr>
          <a:xfrm>
            <a:off x="1676520" y="4648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Овал 16"/>
          <p:cNvGrpSpPr/>
          <p:nvPr/>
        </p:nvGrpSpPr>
        <p:grpSpPr>
          <a:xfrm>
            <a:off x="1700280" y="4925880"/>
            <a:ext cx="641160" cy="652680"/>
            <a:chOff x="1700280" y="4925880"/>
            <a:chExt cx="641160" cy="652680"/>
          </a:xfrm>
        </p:grpSpPr>
        <p:pic>
          <p:nvPicPr>
            <p:cNvPr id="163" name="Овал 16" descr=""/>
            <p:cNvPicPr/>
            <p:nvPr/>
          </p:nvPicPr>
          <p:blipFill>
            <a:blip r:embed="rId9"/>
            <a:stretch/>
          </p:blipFill>
          <p:spPr>
            <a:xfrm>
              <a:off x="1700280" y="4925880"/>
              <a:ext cx="641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830240" y="50306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Овал 17"/>
          <p:cNvGrpSpPr/>
          <p:nvPr/>
        </p:nvGrpSpPr>
        <p:grpSpPr>
          <a:xfrm>
            <a:off x="2230560" y="4694400"/>
            <a:ext cx="1025280" cy="1023840"/>
            <a:chOff x="2230560" y="4694400"/>
            <a:chExt cx="1025280" cy="1023840"/>
          </a:xfrm>
        </p:grpSpPr>
        <p:pic>
          <p:nvPicPr>
            <p:cNvPr id="166" name="Овал 17" descr=""/>
            <p:cNvPicPr/>
            <p:nvPr/>
          </p:nvPicPr>
          <p:blipFill>
            <a:blip r:embed="rId10"/>
            <a:stretch/>
          </p:blipFill>
          <p:spPr>
            <a:xfrm>
              <a:off x="2230560" y="4694400"/>
              <a:ext cx="102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9200" y="48578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оугольник 18"/>
          <p:cNvSpPr/>
          <p:nvPr/>
        </p:nvSpPr>
        <p:spPr>
          <a:xfrm>
            <a:off x="4038480" y="4648320"/>
            <a:ext cx="16765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Овал 19"/>
          <p:cNvGrpSpPr/>
          <p:nvPr/>
        </p:nvGrpSpPr>
        <p:grpSpPr>
          <a:xfrm>
            <a:off x="4595760" y="4925880"/>
            <a:ext cx="641520" cy="652680"/>
            <a:chOff x="4595760" y="4925880"/>
            <a:chExt cx="641520" cy="652680"/>
          </a:xfrm>
        </p:grpSpPr>
        <p:pic>
          <p:nvPicPr>
            <p:cNvPr id="170" name="Овал 19" descr=""/>
            <p:cNvPicPr/>
            <p:nvPr/>
          </p:nvPicPr>
          <p:blipFill>
            <a:blip r:embed="rId11"/>
            <a:stretch/>
          </p:blipFill>
          <p:spPr>
            <a:xfrm>
              <a:off x="45957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7260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20"/>
          <p:cNvGrpSpPr/>
          <p:nvPr/>
        </p:nvGrpSpPr>
        <p:grpSpPr>
          <a:xfrm>
            <a:off x="4138560" y="4925880"/>
            <a:ext cx="641520" cy="652680"/>
            <a:chOff x="4138560" y="4925880"/>
            <a:chExt cx="641520" cy="652680"/>
          </a:xfrm>
        </p:grpSpPr>
        <p:pic>
          <p:nvPicPr>
            <p:cNvPr id="173" name="Овал 20" descr=""/>
            <p:cNvPicPr/>
            <p:nvPr/>
          </p:nvPicPr>
          <p:blipFill>
            <a:blip r:embed="rId12"/>
            <a:stretch/>
          </p:blipFill>
          <p:spPr>
            <a:xfrm>
              <a:off x="41385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688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1"/>
          <p:cNvSpPr/>
          <p:nvPr/>
        </p:nvSpPr>
        <p:spPr>
          <a:xfrm>
            <a:off x="6324480" y="4648320"/>
            <a:ext cx="21337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Cl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22"/>
          <p:cNvGrpSpPr/>
          <p:nvPr/>
        </p:nvGrpSpPr>
        <p:grpSpPr>
          <a:xfrm>
            <a:off x="7107120" y="4694400"/>
            <a:ext cx="1025640" cy="1023840"/>
            <a:chOff x="7107120" y="4694400"/>
            <a:chExt cx="1025640" cy="1023840"/>
          </a:xfrm>
        </p:grpSpPr>
        <p:pic>
          <p:nvPicPr>
            <p:cNvPr id="177" name="Овал 22" descr=""/>
            <p:cNvPicPr/>
            <p:nvPr/>
          </p:nvPicPr>
          <p:blipFill>
            <a:blip r:embed="rId13"/>
            <a:stretch/>
          </p:blipFill>
          <p:spPr>
            <a:xfrm>
              <a:off x="710712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9612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23"/>
          <p:cNvGrpSpPr/>
          <p:nvPr/>
        </p:nvGrpSpPr>
        <p:grpSpPr>
          <a:xfrm>
            <a:off x="6497640" y="4694400"/>
            <a:ext cx="1025640" cy="1023840"/>
            <a:chOff x="6497640" y="4694400"/>
            <a:chExt cx="1025640" cy="1023840"/>
          </a:xfrm>
        </p:grpSpPr>
        <p:pic>
          <p:nvPicPr>
            <p:cNvPr id="180" name="Овал 23" descr=""/>
            <p:cNvPicPr/>
            <p:nvPr/>
          </p:nvPicPr>
          <p:blipFill>
            <a:blip r:embed="rId14"/>
            <a:stretch/>
          </p:blipFill>
          <p:spPr>
            <a:xfrm>
              <a:off x="649764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8664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мальчик думает"/>
          <p:cNvPicPr/>
          <p:nvPr/>
        </p:nvPicPr>
        <p:blipFill>
          <a:blip r:embed="rId15"/>
          <a:stretch/>
        </p:blipFill>
        <p:spPr>
          <a:xfrm>
            <a:off x="7715160" y="357120"/>
            <a:ext cx="1285920" cy="18684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4" descr=""/>
          <p:cNvPicPr/>
          <p:nvPr/>
        </p:nvPicPr>
        <p:blipFill>
          <a:blip r:embed="rId2"/>
          <a:stretch/>
        </p:blipFill>
        <p:spPr>
          <a:xfrm>
            <a:off x="1962000" y="1268280"/>
            <a:ext cx="6755040" cy="5443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0" y="3808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гадайте загад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1008[1]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57200" y="404784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sugar[1]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Содержимое 4" descr="121161_1.jpg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512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08[1]"/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suhfru01[1]"/>
          <p:cNvPicPr/>
          <p:nvPr/>
        </p:nvPicPr>
        <p:blipFill>
          <a:blip r:embed="rId1"/>
          <a:stretch/>
        </p:blipFill>
        <p:spPr>
          <a:xfrm>
            <a:off x="291960" y="2781360"/>
            <a:ext cx="385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__7_[1]"/>
          <p:cNvPicPr/>
          <p:nvPr/>
        </p:nvPicPr>
        <p:blipFill>
          <a:blip r:embed="rId2"/>
          <a:stretch/>
        </p:blipFill>
        <p:spPr>
          <a:xfrm>
            <a:off x="4427640" y="2205000"/>
            <a:ext cx="4371840" cy="3359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042560" y="2204640"/>
            <a:ext cx="7239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мальчик думает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22845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К уксусной кислоте прикасаться опас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500[1]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1_3[1]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Колокольчики"/>
          <p:cNvPicPr/>
          <p:nvPr/>
        </p:nvPicPr>
        <p:blipFill>
          <a:blip r:embed="rId1"/>
          <a:stretch/>
        </p:blipFill>
        <p:spPr>
          <a:xfrm>
            <a:off x="3276720" y="3657600"/>
            <a:ext cx="3267000" cy="27986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пиши 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8592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4520" y="1285920"/>
            <a:ext cx="5072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142920" y="1429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3000240" y="1928880"/>
            <a:ext cx="186696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Нарисуй схем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18"/>
          <p:cNvGrpSpPr/>
          <p:nvPr/>
        </p:nvGrpSpPr>
        <p:grpSpPr>
          <a:xfrm>
            <a:off x="1905120" y="3048120"/>
            <a:ext cx="5679360" cy="1720800"/>
            <a:chOff x="1905120" y="3048120"/>
            <a:chExt cx="5679360" cy="1720800"/>
          </a:xfrm>
        </p:grpSpPr>
        <p:grpSp>
          <p:nvGrpSpPr>
            <p:cNvPr id="72" name="Овал 15"/>
            <p:cNvGrpSpPr/>
            <p:nvPr/>
          </p:nvGrpSpPr>
          <p:grpSpPr>
            <a:xfrm>
              <a:off x="1905120" y="3119760"/>
              <a:ext cx="821520" cy="820440"/>
              <a:chOff x="1905120" y="3119760"/>
              <a:chExt cx="821520" cy="820440"/>
            </a:xfrm>
          </p:grpSpPr>
          <p:pic>
            <p:nvPicPr>
              <p:cNvPr id="73" name="Овал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19760"/>
                <a:ext cx="8215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06100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Овал 16"/>
            <p:cNvGrpSpPr/>
            <p:nvPr/>
          </p:nvGrpSpPr>
          <p:grpSpPr>
            <a:xfrm>
              <a:off x="2503080" y="3119760"/>
              <a:ext cx="827640" cy="820440"/>
              <a:chOff x="2503080" y="3119760"/>
              <a:chExt cx="827640" cy="820440"/>
            </a:xfrm>
          </p:grpSpPr>
          <p:pic>
            <p:nvPicPr>
              <p:cNvPr id="76" name="Овал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3080" y="3119760"/>
                <a:ext cx="8276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6472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7"/>
            <p:cNvSpPr/>
            <p:nvPr/>
          </p:nvSpPr>
          <p:spPr>
            <a:xfrm>
              <a:off x="195408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Прямая со стрелкой 7"/>
            <p:cNvCxnSpPr/>
            <p:nvPr/>
          </p:nvCxnSpPr>
          <p:spPr>
            <a:xfrm>
              <a:off x="3542040" y="3452040"/>
              <a:ext cx="963360" cy="10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80" name="Плюс 8"/>
            <p:cNvSpPr/>
            <p:nvPr/>
          </p:nvSpPr>
          <p:spPr>
            <a:xfrm>
              <a:off x="5731920" y="3227760"/>
              <a:ext cx="464040" cy="460080"/>
            </a:xfrm>
            <a:custGeom>
              <a:avLst/>
              <a:gdLst/>
              <a:ahLst/>
              <a:rect l="l" t="t" r="r" b="b"/>
              <a:pathLst>
                <a:path w="468347" h="468373">
                  <a:moveTo>
                    <a:pt x="62079" y="179109"/>
                  </a:moveTo>
                  <a:lnTo>
                    <a:pt x="179096" y="179109"/>
                  </a:lnTo>
                  <a:lnTo>
                    <a:pt x="179096" y="62083"/>
                  </a:lnTo>
                  <a:lnTo>
                    <a:pt x="289251" y="62083"/>
                  </a:lnTo>
                  <a:lnTo>
                    <a:pt x="289251" y="179109"/>
                  </a:lnTo>
                  <a:lnTo>
                    <a:pt x="406268" y="179109"/>
                  </a:lnTo>
                  <a:lnTo>
                    <a:pt x="406268" y="289264"/>
                  </a:lnTo>
                  <a:lnTo>
                    <a:pt x="289251" y="289264"/>
                  </a:lnTo>
                  <a:lnTo>
                    <a:pt x="289251" y="406290"/>
                  </a:lnTo>
                  <a:lnTo>
                    <a:pt x="179096" y="406290"/>
                  </a:lnTo>
                  <a:lnTo>
                    <a:pt x="179096" y="289264"/>
                  </a:lnTo>
                  <a:lnTo>
                    <a:pt x="62079" y="289264"/>
                  </a:lnTo>
                  <a:lnTo>
                    <a:pt x="62079" y="179109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Овал 13"/>
            <p:cNvGrpSpPr/>
            <p:nvPr/>
          </p:nvGrpSpPr>
          <p:grpSpPr>
            <a:xfrm>
              <a:off x="4768560" y="3048120"/>
              <a:ext cx="827640" cy="814680"/>
              <a:chOff x="4768560" y="3048120"/>
              <a:chExt cx="827640" cy="814680"/>
            </a:xfrm>
          </p:grpSpPr>
          <p:pic>
            <p:nvPicPr>
              <p:cNvPr id="82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85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93020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4597200" y="408888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Овал 11"/>
            <p:cNvGrpSpPr/>
            <p:nvPr/>
          </p:nvGrpSpPr>
          <p:grpSpPr>
            <a:xfrm>
              <a:off x="6429960" y="3048120"/>
              <a:ext cx="827640" cy="814680"/>
              <a:chOff x="6429960" y="3048120"/>
              <a:chExt cx="827640" cy="814680"/>
            </a:xfrm>
          </p:grpSpPr>
          <p:pic>
            <p:nvPicPr>
              <p:cNvPr id="86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99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59124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2"/>
            <p:cNvSpPr/>
            <p:nvPr/>
          </p:nvSpPr>
          <p:spPr>
            <a:xfrm>
              <a:off x="633384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Прямая со стрелкой 21"/>
          <p:cNvCxnSpPr/>
          <p:nvPr/>
        </p:nvCxnSpPr>
        <p:spPr>
          <a:xfrm>
            <a:off x="3276720" y="5334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600200"/>
          <a:ext cx="7238880" cy="43848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23"/>
          <p:cNvGrpSpPr/>
          <p:nvPr/>
        </p:nvGrpSpPr>
        <p:grpSpPr>
          <a:xfrm>
            <a:off x="1447920" y="3352680"/>
            <a:ext cx="6802200" cy="1569240"/>
            <a:chOff x="1447920" y="3352680"/>
            <a:chExt cx="6802200" cy="1569240"/>
          </a:xfrm>
        </p:grpSpPr>
        <p:cxnSp>
          <p:nvCxnSpPr>
            <p:cNvPr id="101" name="Прямая со стрелкой 24"/>
            <p:cNvCxnSpPr/>
            <p:nvPr/>
          </p:nvCxnSpPr>
          <p:spPr>
            <a:xfrm>
              <a:off x="3124080" y="3755880"/>
              <a:ext cx="972000" cy="10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02" name="Плюс 25"/>
            <p:cNvSpPr/>
            <p:nvPr/>
          </p:nvSpPr>
          <p:spPr>
            <a:xfrm>
              <a:off x="525780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люс 26"/>
            <p:cNvSpPr/>
            <p:nvPr/>
          </p:nvSpPr>
          <p:spPr>
            <a:xfrm>
              <a:off x="670572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Овал 27"/>
            <p:cNvGrpSpPr/>
            <p:nvPr/>
          </p:nvGrpSpPr>
          <p:grpSpPr>
            <a:xfrm>
              <a:off x="1548360" y="3723480"/>
              <a:ext cx="640080" cy="645840"/>
              <a:chOff x="1548360" y="3723480"/>
              <a:chExt cx="640080" cy="645840"/>
            </a:xfrm>
          </p:grpSpPr>
          <p:pic>
            <p:nvPicPr>
              <p:cNvPr id="105" name="Овал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360" y="372348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67832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Овал 28"/>
            <p:cNvGrpSpPr/>
            <p:nvPr/>
          </p:nvGrpSpPr>
          <p:grpSpPr>
            <a:xfrm>
              <a:off x="2383560" y="3723480"/>
              <a:ext cx="646200" cy="645840"/>
              <a:chOff x="2383560" y="3723480"/>
              <a:chExt cx="646200" cy="645840"/>
            </a:xfrm>
          </p:grpSpPr>
          <p:pic>
            <p:nvPicPr>
              <p:cNvPr id="108" name="Овал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3560" y="372348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51640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Овал 29"/>
            <p:cNvGrpSpPr/>
            <p:nvPr/>
          </p:nvGrpSpPr>
          <p:grpSpPr>
            <a:xfrm>
              <a:off x="1853280" y="3352680"/>
              <a:ext cx="829080" cy="813240"/>
              <a:chOff x="1853280" y="3352680"/>
              <a:chExt cx="829080" cy="813240"/>
            </a:xfrm>
          </p:grpSpPr>
          <p:pic>
            <p:nvPicPr>
              <p:cNvPr id="111" name="Овал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328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01060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0"/>
            <p:cNvSpPr/>
            <p:nvPr/>
          </p:nvSpPr>
          <p:spPr>
            <a:xfrm>
              <a:off x="1447920" y="4429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Овал 31"/>
            <p:cNvGrpSpPr/>
            <p:nvPr/>
          </p:nvGrpSpPr>
          <p:grpSpPr>
            <a:xfrm>
              <a:off x="4291560" y="3352680"/>
              <a:ext cx="829080" cy="813240"/>
              <a:chOff x="4291560" y="3352680"/>
              <a:chExt cx="829080" cy="813240"/>
            </a:xfrm>
          </p:grpSpPr>
          <p:pic>
            <p:nvPicPr>
              <p:cNvPr id="115" name="Овал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9156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4888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2"/>
            <p:cNvSpPr/>
            <p:nvPr/>
          </p:nvSpPr>
          <p:spPr>
            <a:xfrm>
              <a:off x="4042440" y="4279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Овал 33"/>
            <p:cNvGrpSpPr/>
            <p:nvPr/>
          </p:nvGrpSpPr>
          <p:grpSpPr>
            <a:xfrm>
              <a:off x="5888880" y="3424320"/>
              <a:ext cx="646200" cy="645840"/>
              <a:chOff x="5888880" y="3424320"/>
              <a:chExt cx="646200" cy="645840"/>
            </a:xfrm>
          </p:grpSpPr>
          <p:pic>
            <p:nvPicPr>
              <p:cNvPr id="119" name="Овал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880" y="342432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02208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34"/>
            <p:cNvSpPr/>
            <p:nvPr/>
          </p:nvSpPr>
          <p:spPr>
            <a:xfrm>
              <a:off x="563832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Овал 35"/>
            <p:cNvGrpSpPr/>
            <p:nvPr/>
          </p:nvGrpSpPr>
          <p:grpSpPr>
            <a:xfrm>
              <a:off x="7339680" y="3424320"/>
              <a:ext cx="640080" cy="645840"/>
              <a:chOff x="7339680" y="3424320"/>
              <a:chExt cx="640080" cy="645840"/>
            </a:xfrm>
          </p:grpSpPr>
          <p:pic>
            <p:nvPicPr>
              <p:cNvPr id="123" name="Овал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39680" y="342432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7000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6"/>
            <p:cNvSpPr/>
            <p:nvPr/>
          </p:nvSpPr>
          <p:spPr>
            <a:xfrm>
              <a:off x="708624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7"/>
          <p:cNvSpPr/>
          <p:nvPr/>
        </p:nvSpPr>
        <p:spPr>
          <a:xfrm>
            <a:off x="2535840" y="5486400"/>
            <a:ext cx="357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       О + Н +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9"/>
          <p:cNvCxnSpPr/>
          <p:nvPr/>
        </p:nvCxnSpPr>
        <p:spPr>
          <a:xfrm>
            <a:off x="3504960" y="5791320"/>
            <a:ext cx="533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05:09Z</dcterms:created>
  <dc:creator>www.PHILka.RU</dc:creator>
  <dc:description/>
  <dc:language>en-US</dc:language>
  <cp:lastModifiedBy>LEGION</cp:lastModifiedBy>
  <dcterms:modified xsi:type="dcterms:W3CDTF">2015-05-01T11:04:41Z</dcterms:modified>
  <cp:revision>26</cp:revision>
  <dc:subject/>
  <dc:title>Простые и сложные вещества</dc:title>
</cp:coreProperties>
</file>